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F423066-D9C6-4C77-BC38-ED02DF7D3F01}" type="doc">
      <dgm:prSet loTypeId="urn:microsoft.com/office/officeart/2005/8/layout/hierarchy4" loCatId="hierarchy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de-AT"/>
        </a:p>
      </dgm:t>
    </dgm:pt>
    <dgm:pt modelId="{0DA9C838-34C7-4AB3-B628-F921B5C22728}">
      <dgm:prSet phldrT="[Text]"/>
      <dgm:spPr/>
      <dgm:t>
        <a:bodyPr/>
        <a:lstStyle/>
        <a:p>
          <a:pPr algn="ctr"/>
          <a:r>
            <a:rPr lang="de-DE" dirty="0" smtClean="0"/>
            <a:t>Catch </a:t>
          </a:r>
          <a:r>
            <a:rPr lang="de-DE" dirty="0" err="1" smtClean="0"/>
            <a:t>me</a:t>
          </a:r>
          <a:r>
            <a:rPr lang="de-DE" dirty="0" smtClean="0"/>
            <a:t> </a:t>
          </a:r>
          <a:r>
            <a:rPr lang="de-DE" dirty="0" err="1" smtClean="0"/>
            <a:t>if</a:t>
          </a:r>
          <a:r>
            <a:rPr lang="de-DE" dirty="0" smtClean="0"/>
            <a:t> </a:t>
          </a:r>
          <a:r>
            <a:rPr lang="de-DE" dirty="0" err="1" smtClean="0"/>
            <a:t>you</a:t>
          </a:r>
          <a:r>
            <a:rPr lang="de-DE" dirty="0" smtClean="0"/>
            <a:t> </a:t>
          </a:r>
          <a:r>
            <a:rPr lang="de-DE" dirty="0" err="1" smtClean="0"/>
            <a:t>can</a:t>
          </a:r>
          <a:endParaRPr lang="de-AT" dirty="0"/>
        </a:p>
      </dgm:t>
    </dgm:pt>
    <dgm:pt modelId="{A9469F0E-4247-4DB6-B3BC-4F5D845FC0DE}" type="parTrans" cxnId="{27A00ABF-3077-4C76-B940-0AD50240BA0A}">
      <dgm:prSet/>
      <dgm:spPr/>
      <dgm:t>
        <a:bodyPr/>
        <a:lstStyle/>
        <a:p>
          <a:pPr algn="ctr"/>
          <a:endParaRPr lang="de-AT"/>
        </a:p>
      </dgm:t>
    </dgm:pt>
    <dgm:pt modelId="{E29DD9E7-5F8B-4AAB-A2F8-FEEBF9139ADD}" type="sibTrans" cxnId="{27A00ABF-3077-4C76-B940-0AD50240BA0A}">
      <dgm:prSet/>
      <dgm:spPr/>
      <dgm:t>
        <a:bodyPr/>
        <a:lstStyle/>
        <a:p>
          <a:pPr algn="ctr"/>
          <a:endParaRPr lang="de-AT"/>
        </a:p>
      </dgm:t>
    </dgm:pt>
    <dgm:pt modelId="{250DF42B-CC3E-44E9-A506-B48B5FC3EA03}">
      <dgm:prSet phldrT="[Text]"/>
      <dgm:spPr/>
      <dgm:t>
        <a:bodyPr/>
        <a:lstStyle/>
        <a:p>
          <a:pPr algn="ctr"/>
          <a:r>
            <a:rPr lang="de-DE" dirty="0" smtClean="0"/>
            <a:t>Login</a:t>
          </a:r>
          <a:endParaRPr lang="de-AT" dirty="0"/>
        </a:p>
      </dgm:t>
    </dgm:pt>
    <dgm:pt modelId="{25F56956-A662-4CA4-A18B-C67BA78EDC0F}" type="parTrans" cxnId="{68104CA3-E317-40C0-8452-DD11F5432F4E}">
      <dgm:prSet/>
      <dgm:spPr/>
      <dgm:t>
        <a:bodyPr/>
        <a:lstStyle/>
        <a:p>
          <a:pPr algn="ctr"/>
          <a:endParaRPr lang="de-AT"/>
        </a:p>
      </dgm:t>
    </dgm:pt>
    <dgm:pt modelId="{322B0B95-9DDD-4849-BF35-483C3DE959E5}" type="sibTrans" cxnId="{68104CA3-E317-40C0-8452-DD11F5432F4E}">
      <dgm:prSet/>
      <dgm:spPr/>
      <dgm:t>
        <a:bodyPr/>
        <a:lstStyle/>
        <a:p>
          <a:pPr algn="ctr"/>
          <a:endParaRPr lang="de-AT"/>
        </a:p>
      </dgm:t>
    </dgm:pt>
    <dgm:pt modelId="{64364645-58CA-4659-BF30-1ADA1220B521}">
      <dgm:prSet/>
      <dgm:spPr/>
      <dgm:t>
        <a:bodyPr/>
        <a:lstStyle/>
        <a:p>
          <a:pPr algn="ctr"/>
          <a:r>
            <a:rPr lang="de-DE" dirty="0" smtClean="0"/>
            <a:t>Hauptmenü</a:t>
          </a:r>
          <a:endParaRPr lang="de-AT" dirty="0"/>
        </a:p>
      </dgm:t>
    </dgm:pt>
    <dgm:pt modelId="{BD237FC9-D4F8-4032-828A-6852DB60B984}" type="parTrans" cxnId="{882AACF5-AE27-42A7-97C1-82641AED3EC2}">
      <dgm:prSet/>
      <dgm:spPr/>
      <dgm:t>
        <a:bodyPr/>
        <a:lstStyle/>
        <a:p>
          <a:pPr algn="ctr"/>
          <a:endParaRPr lang="de-AT"/>
        </a:p>
      </dgm:t>
    </dgm:pt>
    <dgm:pt modelId="{34209B34-A8ED-4B4F-B9AF-7AE563B47F3D}" type="sibTrans" cxnId="{882AACF5-AE27-42A7-97C1-82641AED3EC2}">
      <dgm:prSet/>
      <dgm:spPr/>
      <dgm:t>
        <a:bodyPr/>
        <a:lstStyle/>
        <a:p>
          <a:pPr algn="ctr"/>
          <a:endParaRPr lang="de-AT"/>
        </a:p>
      </dgm:t>
    </dgm:pt>
    <dgm:pt modelId="{E6ECB35A-736E-4B27-B96D-D9DCA45C01D0}">
      <dgm:prSet/>
      <dgm:spPr/>
      <dgm:t>
        <a:bodyPr/>
        <a:lstStyle/>
        <a:p>
          <a:pPr algn="ctr"/>
          <a:r>
            <a:rPr lang="de-DE" dirty="0" smtClean="0"/>
            <a:t>Spiel Erstellen</a:t>
          </a:r>
          <a:endParaRPr lang="de-AT" dirty="0"/>
        </a:p>
      </dgm:t>
    </dgm:pt>
    <dgm:pt modelId="{FB00D54D-0D9A-484A-8100-A655C34DF5FE}" type="parTrans" cxnId="{01E9F19C-6D69-4936-9603-B7E1D7DFA7AF}">
      <dgm:prSet/>
      <dgm:spPr/>
      <dgm:t>
        <a:bodyPr/>
        <a:lstStyle/>
        <a:p>
          <a:pPr algn="ctr"/>
          <a:endParaRPr lang="de-AT"/>
        </a:p>
      </dgm:t>
    </dgm:pt>
    <dgm:pt modelId="{CDB6FDBF-BE21-4461-885B-333C4F61BDDD}" type="sibTrans" cxnId="{01E9F19C-6D69-4936-9603-B7E1D7DFA7AF}">
      <dgm:prSet/>
      <dgm:spPr/>
      <dgm:t>
        <a:bodyPr/>
        <a:lstStyle/>
        <a:p>
          <a:pPr algn="ctr"/>
          <a:endParaRPr lang="de-AT"/>
        </a:p>
      </dgm:t>
    </dgm:pt>
    <dgm:pt modelId="{ABBFBDC5-3CB8-4614-B586-DFA2BB0C380E}">
      <dgm:prSet/>
      <dgm:spPr/>
      <dgm:t>
        <a:bodyPr/>
        <a:lstStyle/>
        <a:p>
          <a:pPr algn="ctr"/>
          <a:r>
            <a:rPr lang="de-DE" dirty="0" smtClean="0"/>
            <a:t>Spiel Beitreten</a:t>
          </a:r>
          <a:endParaRPr lang="de-AT" dirty="0"/>
        </a:p>
      </dgm:t>
    </dgm:pt>
    <dgm:pt modelId="{47414B81-88B0-4A2A-95D5-B3D3D54C1C40}" type="parTrans" cxnId="{3CF29EAB-892C-4DEA-826E-D2E44A544B27}">
      <dgm:prSet/>
      <dgm:spPr/>
      <dgm:t>
        <a:bodyPr/>
        <a:lstStyle/>
        <a:p>
          <a:pPr algn="ctr"/>
          <a:endParaRPr lang="de-AT"/>
        </a:p>
      </dgm:t>
    </dgm:pt>
    <dgm:pt modelId="{16FB3295-D8D9-4C81-9B50-1CCBDBC440D9}" type="sibTrans" cxnId="{3CF29EAB-892C-4DEA-826E-D2E44A544B27}">
      <dgm:prSet/>
      <dgm:spPr/>
      <dgm:t>
        <a:bodyPr/>
        <a:lstStyle/>
        <a:p>
          <a:pPr algn="ctr"/>
          <a:endParaRPr lang="de-AT"/>
        </a:p>
      </dgm:t>
    </dgm:pt>
    <dgm:pt modelId="{C37686AB-A15B-49C2-8BC3-34AFF0585070}">
      <dgm:prSet/>
      <dgm:spPr/>
      <dgm:t>
        <a:bodyPr/>
        <a:lstStyle/>
        <a:p>
          <a:pPr algn="ctr"/>
          <a:r>
            <a:rPr lang="de-DE" dirty="0" smtClean="0"/>
            <a:t>Einstellungen</a:t>
          </a:r>
          <a:endParaRPr lang="de-AT" dirty="0"/>
        </a:p>
      </dgm:t>
    </dgm:pt>
    <dgm:pt modelId="{BE87FD58-AD7B-4401-AAC9-59DE3C307107}" type="parTrans" cxnId="{0DE95EEB-3FC4-4E2F-A21E-862630439E1A}">
      <dgm:prSet/>
      <dgm:spPr/>
      <dgm:t>
        <a:bodyPr/>
        <a:lstStyle/>
        <a:p>
          <a:pPr algn="ctr"/>
          <a:endParaRPr lang="de-AT"/>
        </a:p>
      </dgm:t>
    </dgm:pt>
    <dgm:pt modelId="{9FE66259-AB5C-454F-9F9D-FCF12494772B}" type="sibTrans" cxnId="{0DE95EEB-3FC4-4E2F-A21E-862630439E1A}">
      <dgm:prSet/>
      <dgm:spPr/>
      <dgm:t>
        <a:bodyPr/>
        <a:lstStyle/>
        <a:p>
          <a:pPr algn="ctr"/>
          <a:endParaRPr lang="de-AT"/>
        </a:p>
      </dgm:t>
    </dgm:pt>
    <dgm:pt modelId="{61C574B6-1A82-4D89-9834-783BB5CEEA43}">
      <dgm:prSet/>
      <dgm:spPr/>
      <dgm:t>
        <a:bodyPr/>
        <a:lstStyle/>
        <a:p>
          <a:pPr algn="ctr"/>
          <a:r>
            <a:rPr lang="de-DE" dirty="0" smtClean="0"/>
            <a:t>Beenden</a:t>
          </a:r>
          <a:endParaRPr lang="de-AT" dirty="0"/>
        </a:p>
      </dgm:t>
    </dgm:pt>
    <dgm:pt modelId="{43864F56-D25B-458C-B542-0E136257C229}" type="parTrans" cxnId="{8031DB0D-1036-4808-9D61-DD151D6276C9}">
      <dgm:prSet/>
      <dgm:spPr/>
      <dgm:t>
        <a:bodyPr/>
        <a:lstStyle/>
        <a:p>
          <a:pPr algn="ctr"/>
          <a:endParaRPr lang="de-AT"/>
        </a:p>
      </dgm:t>
    </dgm:pt>
    <dgm:pt modelId="{ED127221-25FD-4CF8-9B6B-995E60A6A8EC}" type="sibTrans" cxnId="{8031DB0D-1036-4808-9D61-DD151D6276C9}">
      <dgm:prSet/>
      <dgm:spPr/>
      <dgm:t>
        <a:bodyPr/>
        <a:lstStyle/>
        <a:p>
          <a:pPr algn="ctr"/>
          <a:endParaRPr lang="de-AT"/>
        </a:p>
      </dgm:t>
    </dgm:pt>
    <dgm:pt modelId="{5F135698-6F98-4BA1-A60D-E25B8F3CFAF1}">
      <dgm:prSet/>
      <dgm:spPr/>
      <dgm:t>
        <a:bodyPr/>
        <a:lstStyle/>
        <a:p>
          <a:pPr algn="ctr"/>
          <a:r>
            <a:rPr lang="de-DE" dirty="0" smtClean="0"/>
            <a:t>Spiel Channel</a:t>
          </a:r>
          <a:endParaRPr lang="de-AT" dirty="0"/>
        </a:p>
      </dgm:t>
    </dgm:pt>
    <dgm:pt modelId="{5FA3E79B-6F64-4209-AAB2-C0B2973C9D9D}" type="parTrans" cxnId="{0DD1A5F7-D985-4841-9DEA-93D650CB8B64}">
      <dgm:prSet/>
      <dgm:spPr/>
      <dgm:t>
        <a:bodyPr/>
        <a:lstStyle/>
        <a:p>
          <a:pPr algn="ctr"/>
          <a:endParaRPr lang="de-AT"/>
        </a:p>
      </dgm:t>
    </dgm:pt>
    <dgm:pt modelId="{91F27606-31BB-4CA9-9B3B-1969A5669E4D}" type="sibTrans" cxnId="{0DD1A5F7-D985-4841-9DEA-93D650CB8B64}">
      <dgm:prSet/>
      <dgm:spPr/>
      <dgm:t>
        <a:bodyPr/>
        <a:lstStyle/>
        <a:p>
          <a:pPr algn="ctr"/>
          <a:endParaRPr lang="de-AT"/>
        </a:p>
      </dgm:t>
    </dgm:pt>
    <dgm:pt modelId="{A2DC0ECE-BC62-432A-BC4A-1C9E1F3D1062}">
      <dgm:prSet/>
      <dgm:spPr/>
      <dgm:t>
        <a:bodyPr/>
        <a:lstStyle/>
        <a:p>
          <a:r>
            <a:rPr lang="de-DE" dirty="0" smtClean="0"/>
            <a:t>Spiel</a:t>
          </a:r>
          <a:endParaRPr lang="de-AT" dirty="0"/>
        </a:p>
      </dgm:t>
    </dgm:pt>
    <dgm:pt modelId="{92EB918D-8C8B-452F-BA6D-4E5756103B8A}" type="parTrans" cxnId="{ECDF5F9D-E3B6-4E9F-8BEF-BDC7C2AC5849}">
      <dgm:prSet/>
      <dgm:spPr/>
      <dgm:t>
        <a:bodyPr/>
        <a:lstStyle/>
        <a:p>
          <a:endParaRPr lang="de-AT"/>
        </a:p>
      </dgm:t>
    </dgm:pt>
    <dgm:pt modelId="{CA0D85C2-47F3-41FB-8A75-76373F77A428}" type="sibTrans" cxnId="{ECDF5F9D-E3B6-4E9F-8BEF-BDC7C2AC5849}">
      <dgm:prSet/>
      <dgm:spPr/>
      <dgm:t>
        <a:bodyPr/>
        <a:lstStyle/>
        <a:p>
          <a:endParaRPr lang="de-AT"/>
        </a:p>
      </dgm:t>
    </dgm:pt>
    <dgm:pt modelId="{2ADFBAC0-BA18-49D1-901E-EE2F4FA155FA}" type="pres">
      <dgm:prSet presAssocID="{4F423066-D9C6-4C77-BC38-ED02DF7D3F01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de-AT"/>
        </a:p>
      </dgm:t>
    </dgm:pt>
    <dgm:pt modelId="{D712681D-9107-4330-AAF1-5681693D28C3}" type="pres">
      <dgm:prSet presAssocID="{0DA9C838-34C7-4AB3-B628-F921B5C22728}" presName="vertOne" presStyleCnt="0"/>
      <dgm:spPr/>
    </dgm:pt>
    <dgm:pt modelId="{0F195110-2797-4DFE-94CD-C392EA094FD7}" type="pres">
      <dgm:prSet presAssocID="{0DA9C838-34C7-4AB3-B628-F921B5C22728}" presName="txOn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7E02218A-48DA-4BA1-B502-F7C97A3F963E}" type="pres">
      <dgm:prSet presAssocID="{0DA9C838-34C7-4AB3-B628-F921B5C22728}" presName="parTransOne" presStyleCnt="0"/>
      <dgm:spPr/>
    </dgm:pt>
    <dgm:pt modelId="{CC7BAFBA-08F2-4774-A682-22D155D1FB9D}" type="pres">
      <dgm:prSet presAssocID="{0DA9C838-34C7-4AB3-B628-F921B5C22728}" presName="horzOne" presStyleCnt="0"/>
      <dgm:spPr/>
    </dgm:pt>
    <dgm:pt modelId="{5383A2A0-DEEE-4013-A5E5-B8CF67BA5157}" type="pres">
      <dgm:prSet presAssocID="{250DF42B-CC3E-44E9-A506-B48B5FC3EA03}" presName="vertTwo" presStyleCnt="0"/>
      <dgm:spPr/>
    </dgm:pt>
    <dgm:pt modelId="{D7BFB2A1-955D-4EFB-A6D9-B3D4E4CF4FB4}" type="pres">
      <dgm:prSet presAssocID="{250DF42B-CC3E-44E9-A506-B48B5FC3EA03}" presName="txTwo" presStyleLbl="node2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756327CB-92AA-4B52-ABAC-6EB0E4B82DD9}" type="pres">
      <dgm:prSet presAssocID="{250DF42B-CC3E-44E9-A506-B48B5FC3EA03}" presName="parTransTwo" presStyleCnt="0"/>
      <dgm:spPr/>
    </dgm:pt>
    <dgm:pt modelId="{66FC0C9B-E73F-45E2-BBEA-2FD5E5FDC992}" type="pres">
      <dgm:prSet presAssocID="{250DF42B-CC3E-44E9-A506-B48B5FC3EA03}" presName="horzTwo" presStyleCnt="0"/>
      <dgm:spPr/>
    </dgm:pt>
    <dgm:pt modelId="{D6DB43B1-8367-4270-B089-8D9213942539}" type="pres">
      <dgm:prSet presAssocID="{64364645-58CA-4659-BF30-1ADA1220B521}" presName="vertThree" presStyleCnt="0"/>
      <dgm:spPr/>
    </dgm:pt>
    <dgm:pt modelId="{6F06082F-D823-4837-B6DE-A7535702D30B}" type="pres">
      <dgm:prSet presAssocID="{64364645-58CA-4659-BF30-1ADA1220B521}" presName="txThree" presStyleLbl="node3" presStyleIdx="0" presStyleCnt="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F43BBED4-1D53-4E9B-BCDB-2BAFFFCA512A}" type="pres">
      <dgm:prSet presAssocID="{64364645-58CA-4659-BF30-1ADA1220B521}" presName="parTransThree" presStyleCnt="0"/>
      <dgm:spPr/>
    </dgm:pt>
    <dgm:pt modelId="{97302874-E304-4410-ADFA-A60EA0F13DC3}" type="pres">
      <dgm:prSet presAssocID="{64364645-58CA-4659-BF30-1ADA1220B521}" presName="horzThree" presStyleCnt="0"/>
      <dgm:spPr/>
    </dgm:pt>
    <dgm:pt modelId="{E2672BA2-F17F-42F6-8153-145BBE20B3DE}" type="pres">
      <dgm:prSet presAssocID="{E6ECB35A-736E-4B27-B96D-D9DCA45C01D0}" presName="vertFour" presStyleCnt="0">
        <dgm:presLayoutVars>
          <dgm:chPref val="3"/>
        </dgm:presLayoutVars>
      </dgm:prSet>
      <dgm:spPr/>
    </dgm:pt>
    <dgm:pt modelId="{184F94B8-01E0-478F-8D5C-5E9B4AAACC3C}" type="pres">
      <dgm:prSet presAssocID="{E6ECB35A-736E-4B27-B96D-D9DCA45C01D0}" presName="txFour" presStyleLbl="node4" presStyleIdx="0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8A52424E-C010-4BC8-B0D3-2E5F1F717562}" type="pres">
      <dgm:prSet presAssocID="{E6ECB35A-736E-4B27-B96D-D9DCA45C01D0}" presName="parTransFour" presStyleCnt="0"/>
      <dgm:spPr/>
    </dgm:pt>
    <dgm:pt modelId="{D28ED55E-0A14-48A3-AF1B-3BCE17E4F28C}" type="pres">
      <dgm:prSet presAssocID="{E6ECB35A-736E-4B27-B96D-D9DCA45C01D0}" presName="horzFour" presStyleCnt="0"/>
      <dgm:spPr/>
    </dgm:pt>
    <dgm:pt modelId="{5097420A-72D8-498A-8BC0-62119B072480}" type="pres">
      <dgm:prSet presAssocID="{5F135698-6F98-4BA1-A60D-E25B8F3CFAF1}" presName="vertFour" presStyleCnt="0">
        <dgm:presLayoutVars>
          <dgm:chPref val="3"/>
        </dgm:presLayoutVars>
      </dgm:prSet>
      <dgm:spPr/>
    </dgm:pt>
    <dgm:pt modelId="{D4C6A7F2-6013-4A61-B88A-45F3BF4BEF47}" type="pres">
      <dgm:prSet presAssocID="{5F135698-6F98-4BA1-A60D-E25B8F3CFAF1}" presName="txFour" presStyleLbl="node4" presStyleIdx="1" presStyleCnt="6" custLinFactNeighborX="50285" custLinFactNeighborY="6051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3465D108-D4B5-46F6-A9FB-3F7BAACB0040}" type="pres">
      <dgm:prSet presAssocID="{5F135698-6F98-4BA1-A60D-E25B8F3CFAF1}" presName="parTransFour" presStyleCnt="0"/>
      <dgm:spPr/>
    </dgm:pt>
    <dgm:pt modelId="{CA71C0AF-EA1A-456E-A969-C5C5548AA713}" type="pres">
      <dgm:prSet presAssocID="{5F135698-6F98-4BA1-A60D-E25B8F3CFAF1}" presName="horzFour" presStyleCnt="0"/>
      <dgm:spPr/>
    </dgm:pt>
    <dgm:pt modelId="{85C37D2E-8258-4E08-979F-CACCECE4D4AF}" type="pres">
      <dgm:prSet presAssocID="{A2DC0ECE-BC62-432A-BC4A-1C9E1F3D1062}" presName="vertFour" presStyleCnt="0">
        <dgm:presLayoutVars>
          <dgm:chPref val="3"/>
        </dgm:presLayoutVars>
      </dgm:prSet>
      <dgm:spPr/>
    </dgm:pt>
    <dgm:pt modelId="{308D2534-0E34-49C0-890A-DC14FC887B8A}" type="pres">
      <dgm:prSet presAssocID="{A2DC0ECE-BC62-432A-BC4A-1C9E1F3D1062}" presName="txFour" presStyleLbl="node4" presStyleIdx="2" presStyleCnt="6" custLinFactNeighborX="50285" custLinFactNeighborY="-1632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ABCFE8C1-0283-4467-9CBA-2D8AD718007C}" type="pres">
      <dgm:prSet presAssocID="{A2DC0ECE-BC62-432A-BC4A-1C9E1F3D1062}" presName="horzFour" presStyleCnt="0"/>
      <dgm:spPr/>
    </dgm:pt>
    <dgm:pt modelId="{431C7E33-E8B6-4228-8CFE-14EB1AD505B6}" type="pres">
      <dgm:prSet presAssocID="{CDB6FDBF-BE21-4461-885B-333C4F61BDDD}" presName="sibSpaceFour" presStyleCnt="0"/>
      <dgm:spPr/>
    </dgm:pt>
    <dgm:pt modelId="{3AEDADCE-2E83-49C4-BE4F-A65BF0AD726C}" type="pres">
      <dgm:prSet presAssocID="{ABBFBDC5-3CB8-4614-B586-DFA2BB0C380E}" presName="vertFour" presStyleCnt="0">
        <dgm:presLayoutVars>
          <dgm:chPref val="3"/>
        </dgm:presLayoutVars>
      </dgm:prSet>
      <dgm:spPr/>
    </dgm:pt>
    <dgm:pt modelId="{E2B5C4C1-C5C1-4D71-A776-AA7EA83AA597}" type="pres">
      <dgm:prSet presAssocID="{ABBFBDC5-3CB8-4614-B586-DFA2BB0C380E}" presName="txFour" presStyleLbl="node4" presStyleIdx="3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9FA71209-EE16-42F5-8CAE-BAF9D8022D83}" type="pres">
      <dgm:prSet presAssocID="{ABBFBDC5-3CB8-4614-B586-DFA2BB0C380E}" presName="horzFour" presStyleCnt="0"/>
      <dgm:spPr/>
    </dgm:pt>
    <dgm:pt modelId="{A5998ABA-621B-4001-976B-6135A31B3010}" type="pres">
      <dgm:prSet presAssocID="{16FB3295-D8D9-4C81-9B50-1CCBDBC440D9}" presName="sibSpaceFour" presStyleCnt="0"/>
      <dgm:spPr/>
    </dgm:pt>
    <dgm:pt modelId="{67EE154F-356F-41A6-8F4B-01CC1007E07E}" type="pres">
      <dgm:prSet presAssocID="{C37686AB-A15B-49C2-8BC3-34AFF0585070}" presName="vertFour" presStyleCnt="0">
        <dgm:presLayoutVars>
          <dgm:chPref val="3"/>
        </dgm:presLayoutVars>
      </dgm:prSet>
      <dgm:spPr/>
    </dgm:pt>
    <dgm:pt modelId="{AD3FEA00-7510-4D4E-A045-C79048387B36}" type="pres">
      <dgm:prSet presAssocID="{C37686AB-A15B-49C2-8BC3-34AFF0585070}" presName="txFour" presStyleLbl="node4" presStyleIdx="4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F0A10195-C97D-4CF2-9807-DB98ABFBBA9D}" type="pres">
      <dgm:prSet presAssocID="{C37686AB-A15B-49C2-8BC3-34AFF0585070}" presName="horzFour" presStyleCnt="0"/>
      <dgm:spPr/>
    </dgm:pt>
    <dgm:pt modelId="{F5455CC1-A1D2-4166-B8BB-B1CF1E6863AE}" type="pres">
      <dgm:prSet presAssocID="{9FE66259-AB5C-454F-9F9D-FCF12494772B}" presName="sibSpaceFour" presStyleCnt="0"/>
      <dgm:spPr/>
    </dgm:pt>
    <dgm:pt modelId="{4E777486-C74C-4281-A472-2910E2B25B4A}" type="pres">
      <dgm:prSet presAssocID="{61C574B6-1A82-4D89-9834-783BB5CEEA43}" presName="vertFour" presStyleCnt="0">
        <dgm:presLayoutVars>
          <dgm:chPref val="3"/>
        </dgm:presLayoutVars>
      </dgm:prSet>
      <dgm:spPr/>
    </dgm:pt>
    <dgm:pt modelId="{EEC79A7F-AB37-4592-897E-52338C56C270}" type="pres">
      <dgm:prSet presAssocID="{61C574B6-1A82-4D89-9834-783BB5CEEA43}" presName="txFour" presStyleLbl="node4" presStyleIdx="5" presStyleCnt="6">
        <dgm:presLayoutVars>
          <dgm:chPref val="3"/>
        </dgm:presLayoutVars>
      </dgm:prSet>
      <dgm:spPr/>
      <dgm:t>
        <a:bodyPr/>
        <a:lstStyle/>
        <a:p>
          <a:endParaRPr lang="de-AT"/>
        </a:p>
      </dgm:t>
    </dgm:pt>
    <dgm:pt modelId="{44430F5C-0DB7-4F54-8720-0B59FA1AE32B}" type="pres">
      <dgm:prSet presAssocID="{61C574B6-1A82-4D89-9834-783BB5CEEA43}" presName="horzFour" presStyleCnt="0"/>
      <dgm:spPr/>
    </dgm:pt>
  </dgm:ptLst>
  <dgm:cxnLst>
    <dgm:cxn modelId="{F6679C36-B453-4D57-B591-2468D75D41A1}" type="presOf" srcId="{4F423066-D9C6-4C77-BC38-ED02DF7D3F01}" destId="{2ADFBAC0-BA18-49D1-901E-EE2F4FA155FA}" srcOrd="0" destOrd="0" presId="urn:microsoft.com/office/officeart/2005/8/layout/hierarchy4"/>
    <dgm:cxn modelId="{F2A7089F-1B76-40C9-A0B3-E1543B5EC2AA}" type="presOf" srcId="{ABBFBDC5-3CB8-4614-B586-DFA2BB0C380E}" destId="{E2B5C4C1-C5C1-4D71-A776-AA7EA83AA597}" srcOrd="0" destOrd="0" presId="urn:microsoft.com/office/officeart/2005/8/layout/hierarchy4"/>
    <dgm:cxn modelId="{88C37744-5C04-4C20-8C67-D9108F4D7E64}" type="presOf" srcId="{E6ECB35A-736E-4B27-B96D-D9DCA45C01D0}" destId="{184F94B8-01E0-478F-8D5C-5E9B4AAACC3C}" srcOrd="0" destOrd="0" presId="urn:microsoft.com/office/officeart/2005/8/layout/hierarchy4"/>
    <dgm:cxn modelId="{0DE95EEB-3FC4-4E2F-A21E-862630439E1A}" srcId="{64364645-58CA-4659-BF30-1ADA1220B521}" destId="{C37686AB-A15B-49C2-8BC3-34AFF0585070}" srcOrd="2" destOrd="0" parTransId="{BE87FD58-AD7B-4401-AAC9-59DE3C307107}" sibTransId="{9FE66259-AB5C-454F-9F9D-FCF12494772B}"/>
    <dgm:cxn modelId="{57F008E0-790B-498D-A890-5FBF717588B8}" type="presOf" srcId="{64364645-58CA-4659-BF30-1ADA1220B521}" destId="{6F06082F-D823-4837-B6DE-A7535702D30B}" srcOrd="0" destOrd="0" presId="urn:microsoft.com/office/officeart/2005/8/layout/hierarchy4"/>
    <dgm:cxn modelId="{DBF13F81-BA8D-4343-8AA5-1B5464E0D4E1}" type="presOf" srcId="{0DA9C838-34C7-4AB3-B628-F921B5C22728}" destId="{0F195110-2797-4DFE-94CD-C392EA094FD7}" srcOrd="0" destOrd="0" presId="urn:microsoft.com/office/officeart/2005/8/layout/hierarchy4"/>
    <dgm:cxn modelId="{493E711C-D52B-4BE4-B6FD-AC7E742BECD6}" type="presOf" srcId="{A2DC0ECE-BC62-432A-BC4A-1C9E1F3D1062}" destId="{308D2534-0E34-49C0-890A-DC14FC887B8A}" srcOrd="0" destOrd="0" presId="urn:microsoft.com/office/officeart/2005/8/layout/hierarchy4"/>
    <dgm:cxn modelId="{27A00ABF-3077-4C76-B940-0AD50240BA0A}" srcId="{4F423066-D9C6-4C77-BC38-ED02DF7D3F01}" destId="{0DA9C838-34C7-4AB3-B628-F921B5C22728}" srcOrd="0" destOrd="0" parTransId="{A9469F0E-4247-4DB6-B3BC-4F5D845FC0DE}" sibTransId="{E29DD9E7-5F8B-4AAB-A2F8-FEEBF9139ADD}"/>
    <dgm:cxn modelId="{CF9827EF-647A-439F-A395-02CA0861356F}" type="presOf" srcId="{C37686AB-A15B-49C2-8BC3-34AFF0585070}" destId="{AD3FEA00-7510-4D4E-A045-C79048387B36}" srcOrd="0" destOrd="0" presId="urn:microsoft.com/office/officeart/2005/8/layout/hierarchy4"/>
    <dgm:cxn modelId="{5F8DE4B2-C5CC-4ADC-BEE1-631D02CF8DE4}" type="presOf" srcId="{61C574B6-1A82-4D89-9834-783BB5CEEA43}" destId="{EEC79A7F-AB37-4592-897E-52338C56C270}" srcOrd="0" destOrd="0" presId="urn:microsoft.com/office/officeart/2005/8/layout/hierarchy4"/>
    <dgm:cxn modelId="{01E9F19C-6D69-4936-9603-B7E1D7DFA7AF}" srcId="{64364645-58CA-4659-BF30-1ADA1220B521}" destId="{E6ECB35A-736E-4B27-B96D-D9DCA45C01D0}" srcOrd="0" destOrd="0" parTransId="{FB00D54D-0D9A-484A-8100-A655C34DF5FE}" sibTransId="{CDB6FDBF-BE21-4461-885B-333C4F61BDDD}"/>
    <dgm:cxn modelId="{8031DB0D-1036-4808-9D61-DD151D6276C9}" srcId="{64364645-58CA-4659-BF30-1ADA1220B521}" destId="{61C574B6-1A82-4D89-9834-783BB5CEEA43}" srcOrd="3" destOrd="0" parTransId="{43864F56-D25B-458C-B542-0E136257C229}" sibTransId="{ED127221-25FD-4CF8-9B6B-995E60A6A8EC}"/>
    <dgm:cxn modelId="{72053D92-8D4F-424A-A043-9180100D1103}" type="presOf" srcId="{250DF42B-CC3E-44E9-A506-B48B5FC3EA03}" destId="{D7BFB2A1-955D-4EFB-A6D9-B3D4E4CF4FB4}" srcOrd="0" destOrd="0" presId="urn:microsoft.com/office/officeart/2005/8/layout/hierarchy4"/>
    <dgm:cxn modelId="{68104CA3-E317-40C0-8452-DD11F5432F4E}" srcId="{0DA9C838-34C7-4AB3-B628-F921B5C22728}" destId="{250DF42B-CC3E-44E9-A506-B48B5FC3EA03}" srcOrd="0" destOrd="0" parTransId="{25F56956-A662-4CA4-A18B-C67BA78EDC0F}" sibTransId="{322B0B95-9DDD-4849-BF35-483C3DE959E5}"/>
    <dgm:cxn modelId="{ECDF5F9D-E3B6-4E9F-8BEF-BDC7C2AC5849}" srcId="{5F135698-6F98-4BA1-A60D-E25B8F3CFAF1}" destId="{A2DC0ECE-BC62-432A-BC4A-1C9E1F3D1062}" srcOrd="0" destOrd="0" parTransId="{92EB918D-8C8B-452F-BA6D-4E5756103B8A}" sibTransId="{CA0D85C2-47F3-41FB-8A75-76373F77A428}"/>
    <dgm:cxn modelId="{3CF29EAB-892C-4DEA-826E-D2E44A544B27}" srcId="{64364645-58CA-4659-BF30-1ADA1220B521}" destId="{ABBFBDC5-3CB8-4614-B586-DFA2BB0C380E}" srcOrd="1" destOrd="0" parTransId="{47414B81-88B0-4A2A-95D5-B3D3D54C1C40}" sibTransId="{16FB3295-D8D9-4C81-9B50-1CCBDBC440D9}"/>
    <dgm:cxn modelId="{0DD1A5F7-D985-4841-9DEA-93D650CB8B64}" srcId="{E6ECB35A-736E-4B27-B96D-D9DCA45C01D0}" destId="{5F135698-6F98-4BA1-A60D-E25B8F3CFAF1}" srcOrd="0" destOrd="0" parTransId="{5FA3E79B-6F64-4209-AAB2-C0B2973C9D9D}" sibTransId="{91F27606-31BB-4CA9-9B3B-1969A5669E4D}"/>
    <dgm:cxn modelId="{882AACF5-AE27-42A7-97C1-82641AED3EC2}" srcId="{250DF42B-CC3E-44E9-A506-B48B5FC3EA03}" destId="{64364645-58CA-4659-BF30-1ADA1220B521}" srcOrd="0" destOrd="0" parTransId="{BD237FC9-D4F8-4032-828A-6852DB60B984}" sibTransId="{34209B34-A8ED-4B4F-B9AF-7AE563B47F3D}"/>
    <dgm:cxn modelId="{F8ACA955-43A1-45E6-AEB3-326225EDBE91}" type="presOf" srcId="{5F135698-6F98-4BA1-A60D-E25B8F3CFAF1}" destId="{D4C6A7F2-6013-4A61-B88A-45F3BF4BEF47}" srcOrd="0" destOrd="0" presId="urn:microsoft.com/office/officeart/2005/8/layout/hierarchy4"/>
    <dgm:cxn modelId="{8F3FD290-733E-416F-A4E3-DC959AB8895F}" type="presParOf" srcId="{2ADFBAC0-BA18-49D1-901E-EE2F4FA155FA}" destId="{D712681D-9107-4330-AAF1-5681693D28C3}" srcOrd="0" destOrd="0" presId="urn:microsoft.com/office/officeart/2005/8/layout/hierarchy4"/>
    <dgm:cxn modelId="{B1F23A7E-1E45-477B-9686-729F7930A3ED}" type="presParOf" srcId="{D712681D-9107-4330-AAF1-5681693D28C3}" destId="{0F195110-2797-4DFE-94CD-C392EA094FD7}" srcOrd="0" destOrd="0" presId="urn:microsoft.com/office/officeart/2005/8/layout/hierarchy4"/>
    <dgm:cxn modelId="{A1D27352-F733-4873-A39D-3E9D890C0D9B}" type="presParOf" srcId="{D712681D-9107-4330-AAF1-5681693D28C3}" destId="{7E02218A-48DA-4BA1-B502-F7C97A3F963E}" srcOrd="1" destOrd="0" presId="urn:microsoft.com/office/officeart/2005/8/layout/hierarchy4"/>
    <dgm:cxn modelId="{10C7D0A7-B939-4C15-82B6-C50667AA41AF}" type="presParOf" srcId="{D712681D-9107-4330-AAF1-5681693D28C3}" destId="{CC7BAFBA-08F2-4774-A682-22D155D1FB9D}" srcOrd="2" destOrd="0" presId="urn:microsoft.com/office/officeart/2005/8/layout/hierarchy4"/>
    <dgm:cxn modelId="{793969AD-5D89-4EF1-8730-894842462281}" type="presParOf" srcId="{CC7BAFBA-08F2-4774-A682-22D155D1FB9D}" destId="{5383A2A0-DEEE-4013-A5E5-B8CF67BA5157}" srcOrd="0" destOrd="0" presId="urn:microsoft.com/office/officeart/2005/8/layout/hierarchy4"/>
    <dgm:cxn modelId="{2181BE3A-B44E-4FC6-A0BA-E711F1CD57B2}" type="presParOf" srcId="{5383A2A0-DEEE-4013-A5E5-B8CF67BA5157}" destId="{D7BFB2A1-955D-4EFB-A6D9-B3D4E4CF4FB4}" srcOrd="0" destOrd="0" presId="urn:microsoft.com/office/officeart/2005/8/layout/hierarchy4"/>
    <dgm:cxn modelId="{1C97EE78-689C-4A47-A744-18084284FCB8}" type="presParOf" srcId="{5383A2A0-DEEE-4013-A5E5-B8CF67BA5157}" destId="{756327CB-92AA-4B52-ABAC-6EB0E4B82DD9}" srcOrd="1" destOrd="0" presId="urn:microsoft.com/office/officeart/2005/8/layout/hierarchy4"/>
    <dgm:cxn modelId="{DF8B1DBC-501B-482E-8D8E-94A9894EE4DC}" type="presParOf" srcId="{5383A2A0-DEEE-4013-A5E5-B8CF67BA5157}" destId="{66FC0C9B-E73F-45E2-BBEA-2FD5E5FDC992}" srcOrd="2" destOrd="0" presId="urn:microsoft.com/office/officeart/2005/8/layout/hierarchy4"/>
    <dgm:cxn modelId="{07ADB435-E80F-4A31-BA35-B0FC57FD3427}" type="presParOf" srcId="{66FC0C9B-E73F-45E2-BBEA-2FD5E5FDC992}" destId="{D6DB43B1-8367-4270-B089-8D9213942539}" srcOrd="0" destOrd="0" presId="urn:microsoft.com/office/officeart/2005/8/layout/hierarchy4"/>
    <dgm:cxn modelId="{5B7318CB-B1FC-4781-9F32-262ECEE8FF6A}" type="presParOf" srcId="{D6DB43B1-8367-4270-B089-8D9213942539}" destId="{6F06082F-D823-4837-B6DE-A7535702D30B}" srcOrd="0" destOrd="0" presId="urn:microsoft.com/office/officeart/2005/8/layout/hierarchy4"/>
    <dgm:cxn modelId="{C194CFAA-187C-4F23-8C6B-441F9136030D}" type="presParOf" srcId="{D6DB43B1-8367-4270-B089-8D9213942539}" destId="{F43BBED4-1D53-4E9B-BCDB-2BAFFFCA512A}" srcOrd="1" destOrd="0" presId="urn:microsoft.com/office/officeart/2005/8/layout/hierarchy4"/>
    <dgm:cxn modelId="{C7A4B612-3E38-4656-8461-7FAF0C01D88A}" type="presParOf" srcId="{D6DB43B1-8367-4270-B089-8D9213942539}" destId="{97302874-E304-4410-ADFA-A60EA0F13DC3}" srcOrd="2" destOrd="0" presId="urn:microsoft.com/office/officeart/2005/8/layout/hierarchy4"/>
    <dgm:cxn modelId="{41A280E4-DF7E-49A1-A2FF-7507FDABD9FE}" type="presParOf" srcId="{97302874-E304-4410-ADFA-A60EA0F13DC3}" destId="{E2672BA2-F17F-42F6-8153-145BBE20B3DE}" srcOrd="0" destOrd="0" presId="urn:microsoft.com/office/officeart/2005/8/layout/hierarchy4"/>
    <dgm:cxn modelId="{76B76A40-24FE-4B72-8030-D8FBCE6502EB}" type="presParOf" srcId="{E2672BA2-F17F-42F6-8153-145BBE20B3DE}" destId="{184F94B8-01E0-478F-8D5C-5E9B4AAACC3C}" srcOrd="0" destOrd="0" presId="urn:microsoft.com/office/officeart/2005/8/layout/hierarchy4"/>
    <dgm:cxn modelId="{2DAAE463-84B0-4890-812D-2021A5CE1DB6}" type="presParOf" srcId="{E2672BA2-F17F-42F6-8153-145BBE20B3DE}" destId="{8A52424E-C010-4BC8-B0D3-2E5F1F717562}" srcOrd="1" destOrd="0" presId="urn:microsoft.com/office/officeart/2005/8/layout/hierarchy4"/>
    <dgm:cxn modelId="{6B9A4C48-3EBE-4519-B735-144C6531AF5C}" type="presParOf" srcId="{E2672BA2-F17F-42F6-8153-145BBE20B3DE}" destId="{D28ED55E-0A14-48A3-AF1B-3BCE17E4F28C}" srcOrd="2" destOrd="0" presId="urn:microsoft.com/office/officeart/2005/8/layout/hierarchy4"/>
    <dgm:cxn modelId="{88B61134-3185-4F7D-951A-F7C2B6EF485F}" type="presParOf" srcId="{D28ED55E-0A14-48A3-AF1B-3BCE17E4F28C}" destId="{5097420A-72D8-498A-8BC0-62119B072480}" srcOrd="0" destOrd="0" presId="urn:microsoft.com/office/officeart/2005/8/layout/hierarchy4"/>
    <dgm:cxn modelId="{44F25794-074B-431C-8504-A6F8C867974E}" type="presParOf" srcId="{5097420A-72D8-498A-8BC0-62119B072480}" destId="{D4C6A7F2-6013-4A61-B88A-45F3BF4BEF47}" srcOrd="0" destOrd="0" presId="urn:microsoft.com/office/officeart/2005/8/layout/hierarchy4"/>
    <dgm:cxn modelId="{99D87E65-7251-4F79-A5E4-C81C6CE697DA}" type="presParOf" srcId="{5097420A-72D8-498A-8BC0-62119B072480}" destId="{3465D108-D4B5-46F6-A9FB-3F7BAACB0040}" srcOrd="1" destOrd="0" presId="urn:microsoft.com/office/officeart/2005/8/layout/hierarchy4"/>
    <dgm:cxn modelId="{03203B1D-FFB6-43FF-9AA7-CC943427D40B}" type="presParOf" srcId="{5097420A-72D8-498A-8BC0-62119B072480}" destId="{CA71C0AF-EA1A-456E-A969-C5C5548AA713}" srcOrd="2" destOrd="0" presId="urn:microsoft.com/office/officeart/2005/8/layout/hierarchy4"/>
    <dgm:cxn modelId="{63B9BA4A-17AB-40A0-9850-C560954E5C7B}" type="presParOf" srcId="{CA71C0AF-EA1A-456E-A969-C5C5548AA713}" destId="{85C37D2E-8258-4E08-979F-CACCECE4D4AF}" srcOrd="0" destOrd="0" presId="urn:microsoft.com/office/officeart/2005/8/layout/hierarchy4"/>
    <dgm:cxn modelId="{6488433F-4AFD-40D1-9AE6-032C00D3F3E1}" type="presParOf" srcId="{85C37D2E-8258-4E08-979F-CACCECE4D4AF}" destId="{308D2534-0E34-49C0-890A-DC14FC887B8A}" srcOrd="0" destOrd="0" presId="urn:microsoft.com/office/officeart/2005/8/layout/hierarchy4"/>
    <dgm:cxn modelId="{4656DCF1-8863-4536-B9DA-DF3198D9CC56}" type="presParOf" srcId="{85C37D2E-8258-4E08-979F-CACCECE4D4AF}" destId="{ABCFE8C1-0283-4467-9CBA-2D8AD718007C}" srcOrd="1" destOrd="0" presId="urn:microsoft.com/office/officeart/2005/8/layout/hierarchy4"/>
    <dgm:cxn modelId="{9833F4D0-4541-4D0F-8885-F2C3B552ECA6}" type="presParOf" srcId="{97302874-E304-4410-ADFA-A60EA0F13DC3}" destId="{431C7E33-E8B6-4228-8CFE-14EB1AD505B6}" srcOrd="1" destOrd="0" presId="urn:microsoft.com/office/officeart/2005/8/layout/hierarchy4"/>
    <dgm:cxn modelId="{5F04D3CB-A90C-4995-B62D-EC93D2885C66}" type="presParOf" srcId="{97302874-E304-4410-ADFA-A60EA0F13DC3}" destId="{3AEDADCE-2E83-49C4-BE4F-A65BF0AD726C}" srcOrd="2" destOrd="0" presId="urn:microsoft.com/office/officeart/2005/8/layout/hierarchy4"/>
    <dgm:cxn modelId="{1D01A777-EF49-4665-A391-B82E25FBC246}" type="presParOf" srcId="{3AEDADCE-2E83-49C4-BE4F-A65BF0AD726C}" destId="{E2B5C4C1-C5C1-4D71-A776-AA7EA83AA597}" srcOrd="0" destOrd="0" presId="urn:microsoft.com/office/officeart/2005/8/layout/hierarchy4"/>
    <dgm:cxn modelId="{68E24C72-C69D-47B2-BF7A-4509291F9119}" type="presParOf" srcId="{3AEDADCE-2E83-49C4-BE4F-A65BF0AD726C}" destId="{9FA71209-EE16-42F5-8CAE-BAF9D8022D83}" srcOrd="1" destOrd="0" presId="urn:microsoft.com/office/officeart/2005/8/layout/hierarchy4"/>
    <dgm:cxn modelId="{3B0CA475-B506-4344-9EB4-5E642CA5D46D}" type="presParOf" srcId="{97302874-E304-4410-ADFA-A60EA0F13DC3}" destId="{A5998ABA-621B-4001-976B-6135A31B3010}" srcOrd="3" destOrd="0" presId="urn:microsoft.com/office/officeart/2005/8/layout/hierarchy4"/>
    <dgm:cxn modelId="{14BB9F95-DA83-4FE8-A20F-1B5BC7A0E48C}" type="presParOf" srcId="{97302874-E304-4410-ADFA-A60EA0F13DC3}" destId="{67EE154F-356F-41A6-8F4B-01CC1007E07E}" srcOrd="4" destOrd="0" presId="urn:microsoft.com/office/officeart/2005/8/layout/hierarchy4"/>
    <dgm:cxn modelId="{68E1568E-30AD-4243-B993-9D06E8A6C723}" type="presParOf" srcId="{67EE154F-356F-41A6-8F4B-01CC1007E07E}" destId="{AD3FEA00-7510-4D4E-A045-C79048387B36}" srcOrd="0" destOrd="0" presId="urn:microsoft.com/office/officeart/2005/8/layout/hierarchy4"/>
    <dgm:cxn modelId="{7DD0602B-4504-4248-9862-FA9723CE7065}" type="presParOf" srcId="{67EE154F-356F-41A6-8F4B-01CC1007E07E}" destId="{F0A10195-C97D-4CF2-9807-DB98ABFBBA9D}" srcOrd="1" destOrd="0" presId="urn:microsoft.com/office/officeart/2005/8/layout/hierarchy4"/>
    <dgm:cxn modelId="{06A5D0F2-1C6F-4019-8945-44EF8700DBBB}" type="presParOf" srcId="{97302874-E304-4410-ADFA-A60EA0F13DC3}" destId="{F5455CC1-A1D2-4166-B8BB-B1CF1E6863AE}" srcOrd="5" destOrd="0" presId="urn:microsoft.com/office/officeart/2005/8/layout/hierarchy4"/>
    <dgm:cxn modelId="{443DC65A-BC46-423C-8107-BE8E2ED690BC}" type="presParOf" srcId="{97302874-E304-4410-ADFA-A60EA0F13DC3}" destId="{4E777486-C74C-4281-A472-2910E2B25B4A}" srcOrd="6" destOrd="0" presId="urn:microsoft.com/office/officeart/2005/8/layout/hierarchy4"/>
    <dgm:cxn modelId="{E8681D6B-2786-4BB4-B926-F2FB5BB71988}" type="presParOf" srcId="{4E777486-C74C-4281-A472-2910E2B25B4A}" destId="{EEC79A7F-AB37-4592-897E-52338C56C270}" srcOrd="0" destOrd="0" presId="urn:microsoft.com/office/officeart/2005/8/layout/hierarchy4"/>
    <dgm:cxn modelId="{6A9CCBAF-22E5-4F85-B6B0-09AE5FD4F9AE}" type="presParOf" srcId="{4E777486-C74C-4281-A472-2910E2B25B4A}" destId="{44430F5C-0DB7-4F54-8720-0B59FA1AE32B}" srcOrd="1" destOrd="0" presId="urn:microsoft.com/office/officeart/2005/8/layout/hierarchy4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209-1F25-4FE5-B3D6-E97E6F79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575-86EA-4B5E-AF02-6A2C76B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6A5-81E7-49D1-A7D4-2C43007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E60-D49B-4474-9F97-AB244CD3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F3F-717F-4E45-ACE4-3D0DEEF9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1C5-F494-4233-B019-0D0190A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3AB-9C24-4F9F-8176-F98D547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01A-8C6E-4A1B-9559-AA0CB6F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613-FA98-46A4-BD05-6646C64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94D-7DEC-422E-AB68-77C7DAB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6B6-6BA7-4CA1-929C-91FF957B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2B9-1B88-474C-80EA-FF3F3738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7480-E10D-4C9C-90BC-40FD105D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F21D-56C2-4F74-810F-874C347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D17-FC2A-45B1-8614-0186221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F10D-E7F6-4D65-A7CD-5F3DD06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5E9-2CD0-4901-B061-A980D63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59E8-3A24-439A-A0B6-25DD687C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7CD-E5C0-415C-A509-EB7ECF3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5725-46C3-493E-925F-971F9C3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9FF0-90DD-4BA1-AD32-E5078519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9A8D-8CC4-43FD-863F-E5A2C74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8E67-255D-4BBA-99B4-9C6A8D57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5828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785920" y="27046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0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5828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785920" y="34934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71F-91B7-4F23-ADFC-04883B85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0280" y="1316880"/>
            <a:ext cx="777204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2960" y="34934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2960" y="27046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280" y="34934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3286080" y="5286240"/>
            <a:ext cx="2363400" cy="1125000"/>
          </a:xfrm>
          <a:prstGeom prst="rect">
            <a:avLst/>
          </a:prstGeom>
          <a:ln w="9525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6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7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035c75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C0768-9FCF-4B08-9242-B918AE76562D}" type="slidenum">
              <a:rPr b="0" lang="de-AT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Constantia"/>
              </a:rPr>
              <a:t>Textmasterformate durch Klicken bearbeiten</a:t>
            </a:r>
            <a:endParaRPr b="0" lang="de-DE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d1eaed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347FF8-7FCF-4230-8351-F741687538DF}" type="slidenum">
              <a:rPr b="0" lang="de-AT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4" descr="logo-trans.png"/>
          <p:cNvPicPr/>
          <p:nvPr/>
        </p:nvPicPr>
        <p:blipFill>
          <a:blip r:embed="rId1"/>
          <a:stretch/>
        </p:blipFill>
        <p:spPr>
          <a:xfrm>
            <a:off x="142920" y="1745280"/>
            <a:ext cx="8643600" cy="2469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00840" y="3357720"/>
            <a:ext cx="2853720" cy="57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Game De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43160" y="3214800"/>
            <a:ext cx="2714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Features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EC6B-8B9F-4FAE-B228-4BF5837989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igenschaften von Objek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as sind Objekte?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r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als Punkte auf der Karte dargestell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sitzt einen Wirkungsberei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2m)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Bezieht sich auf die Größe des Spielfeldes (min. 5m)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F7D-09B1-4378-8AA9-5A954D4F56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kart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rei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röß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immt der eingestellte Radiu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ig  Bos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(A – B)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gen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6080" indent="-22608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557-29B9-4080-9C53-B6223F0D6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86040" y="2571840"/>
            <a:ext cx="3857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aufbau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79D-94F5-4DD7-94D8-D13D487573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truktur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62150840"/>
              </p:ext>
            </p:extLst>
          </p:nvPr>
        </p:nvGraphicFramePr>
        <p:xfrm>
          <a:off x="857160" y="1571760"/>
          <a:ext cx="750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17C-F39E-4B2E-81CB-873189E690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00240" y="785880"/>
            <a:ext cx="335736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Hauptmenü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nhaltsplatzhalter 9" descr="CMIYC_MainMenue.jpg"/>
          <p:cNvPicPr/>
          <p:nvPr/>
        </p:nvPicPr>
        <p:blipFill>
          <a:blip r:embed="rId1"/>
          <a:stretch/>
        </p:blipFill>
        <p:spPr>
          <a:xfrm>
            <a:off x="1785960" y="171432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F11-6887-4D06-AF75-CF17117C85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 erstell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Inhaltsplatzhalter 7" descr="CMIYC_SpielErstellen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31C-9C5E-4036-8B0D-045A24997D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beitreten</a:t>
            </a:r>
            <a:endParaRPr b="0" lang="de-DE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Inhaltsplatzhalter 8" descr="CMIYC_SpielBeitreten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378-6106-41BB-A09D-158A18BBE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</a:rPr>
              <a:t>Spiel Channel</a:t>
            </a:r>
            <a:endParaRPr b="0" lang="de-DE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Inhaltsplatzhalter 10" descr="CMIYC_WarteRaum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1A6-00E5-4672-BD86-236A869A2D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86040" y="3000240"/>
            <a:ext cx="35002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ablauf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ADC5-6798-42B6-B136-6DBF8A20FE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llgemeines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nline Spiel für mobile Endgerä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Nutzt GP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ines Multiplayer Spie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bination au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chnitzeljagd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Räuber und Gendarm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659-DC46-4F98-BF4E-EA249B5ED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24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start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neriert die Position der Hauptquartiere der Team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eichnet diese auf der Karte e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ehen zu ihren Hauptquartier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chef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eine bestimmte Anzahl von Agents auf der Kar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 beginn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CCF-D2B6-4428-9681-B5DB59159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240" cy="846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Aufgaben der Teams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i aufspüren und verhaft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ufspür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Sichtkontank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Meldung von Agents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haft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Indem sich ein Polizist eine bestimmte Zeit im Bereich eines Mafioso aufhäl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ufträge ausführen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Mafiosi müssen ein Objekt von A nach B transportieren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C31-14AA-4BEC-81EB-FDCF48A427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Ereigniss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wird gefass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 erhält Punk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oso kann eine bestimmte Zeit lang keine Aufträge annehm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 muss zurück zum Hauptquarti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 erfüllt einen 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 erhält Punkt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EE5-204E-412C-BF5C-87F787E26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857320"/>
            <a:ext cx="50716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Beispielrunde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2A44-B666-44B8-88E4-7F4D4E3386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pieleinstellung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pielnam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Test FH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uer um einen Mafioso zu fassen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 m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reeztime eines Mafioso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 mi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unkteanzah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300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ximal Spieleranzah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6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zahl der Agent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adius des Spielfelde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520" indent="-21960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00m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383-4C29-408D-89CD-F3E178F95A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erhält Auftra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nhalt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Stehlen sie 10 Gewehre von Luigi und liefern sie die Ware bei Don Charly ab.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Wert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10 Punkt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891-2BFE-4484-A383-EAD01F0035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ig Boss verteilt die Aufträge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Auftra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an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d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3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1EF-D04F-4AF1-803F-A4651C0876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Szenario 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und Andi holen die Ware ab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efinden sich auf dem Weg zum Übergabeor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rden jedoch von einem Agent gesichte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 verfolgt si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ani kann nicht entkommen und wird gefass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ndi entkomm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Resultat: Mission Fehlgeschla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3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5FC-A894-485E-819C-A1D45B6313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Mafios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Inhaltsplatzhalter 6" descr="CMIYC_MAP.jpg"/>
          <p:cNvPicPr/>
          <p:nvPr/>
        </p:nvPicPr>
        <p:blipFill>
          <a:blip r:embed="rId1"/>
          <a:stretch/>
        </p:blipFill>
        <p:spPr>
          <a:xfrm>
            <a:off x="1828440" y="193500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feld 7"/>
          <p:cNvSpPr/>
          <p:nvPr/>
        </p:nvSpPr>
        <p:spPr>
          <a:xfrm>
            <a:off x="5286240" y="271476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8"/>
          <p:cNvSpPr/>
          <p:nvPr/>
        </p:nvSpPr>
        <p:spPr>
          <a:xfrm>
            <a:off x="4214880" y="5500800"/>
            <a:ext cx="128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on 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9"/>
          <p:cNvSpPr/>
          <p:nvPr/>
        </p:nvSpPr>
        <p:spPr>
          <a:xfrm>
            <a:off x="4500720" y="464328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ig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feld 10"/>
          <p:cNvSpPr/>
          <p:nvPr/>
        </p:nvSpPr>
        <p:spPr>
          <a:xfrm>
            <a:off x="3071880" y="28573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11"/>
          <p:cNvSpPr/>
          <p:nvPr/>
        </p:nvSpPr>
        <p:spPr>
          <a:xfrm>
            <a:off x="4071960" y="3357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D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12"/>
          <p:cNvSpPr/>
          <p:nvPr/>
        </p:nvSpPr>
        <p:spPr>
          <a:xfrm>
            <a:off x="5429160" y="3357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Gerade Verbindung mit Pfeil 14"/>
          <p:cNvCxnSpPr/>
          <p:nvPr/>
        </p:nvCxnSpPr>
        <p:spPr>
          <a:xfrm flipV="1">
            <a:off x="3571560" y="3000240"/>
            <a:ext cx="1429200" cy="2862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19" name="Gerade Verbindung mit Pfeil 15"/>
          <p:cNvCxnSpPr/>
          <p:nvPr/>
        </p:nvCxnSpPr>
        <p:spPr>
          <a:xfrm flipH="1">
            <a:off x="4143240" y="3071520"/>
            <a:ext cx="1286280" cy="24292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B7C-6B59-484F-B028-8B0054632A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nhaltsplatzhalter 7" descr="CMIYC_MAP_v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486400" cy="4389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Karte aus Sicht der Polize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3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feld 8"/>
          <p:cNvSpPr/>
          <p:nvPr/>
        </p:nvSpPr>
        <p:spPr>
          <a:xfrm>
            <a:off x="5286240" y="2714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9"/>
          <p:cNvSpPr/>
          <p:nvPr/>
        </p:nvSpPr>
        <p:spPr>
          <a:xfrm>
            <a:off x="7215120" y="3500280"/>
            <a:ext cx="99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11"/>
          <p:cNvSpPr/>
          <p:nvPr/>
        </p:nvSpPr>
        <p:spPr>
          <a:xfrm>
            <a:off x="5857920" y="457200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B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feld 12"/>
          <p:cNvSpPr/>
          <p:nvPr/>
        </p:nvSpPr>
        <p:spPr>
          <a:xfrm>
            <a:off x="4000320" y="5000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ffffff"/>
                </a:solidFill>
                <a:latin typeface="Constantia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lussdiagramm: Verbindungsstelle 14"/>
          <p:cNvSpPr/>
          <p:nvPr/>
        </p:nvSpPr>
        <p:spPr>
          <a:xfrm>
            <a:off x="4786200" y="3429000"/>
            <a:ext cx="928440" cy="785520"/>
          </a:xfrm>
          <a:prstGeom prst="flowChartConnector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AT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28" name="Textfeld 10"/>
          <p:cNvSpPr/>
          <p:nvPr/>
        </p:nvSpPr>
        <p:spPr>
          <a:xfrm>
            <a:off x="7215120" y="385776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Gerade Verbindung mit Pfeil 16"/>
          <p:cNvCxnSpPr/>
          <p:nvPr/>
        </p:nvCxnSpPr>
        <p:spPr>
          <a:xfrm flipH="1" flipV="1">
            <a:off x="5429160" y="3571560"/>
            <a:ext cx="1571760" cy="1432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0" name="Gerade Verbindung mit Pfeil 17"/>
          <p:cNvCxnSpPr/>
          <p:nvPr/>
        </p:nvCxnSpPr>
        <p:spPr>
          <a:xfrm flipH="1" flipV="1">
            <a:off x="5500440" y="3857400"/>
            <a:ext cx="1572120" cy="1432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1" name="Gerade Verbindung mit Pfeil 19"/>
          <p:cNvCxnSpPr/>
          <p:nvPr/>
        </p:nvCxnSpPr>
        <p:spPr>
          <a:xfrm flipH="1" flipV="1">
            <a:off x="5357520" y="4000320"/>
            <a:ext cx="214920" cy="50040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6D2-33FB-4E08-B138-E09C5ADB1E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Voraussetzung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PS fähiges Handy oder PDA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Plattformen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AV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icrosoft .net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nternetverbindung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PR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UM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DP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SUP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349-1F2B-4E14-857A-3143F93D5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64312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Ende Spielbeschreibung</a:t>
            </a:r>
            <a:br>
              <a:rPr sz="5600"/>
            </a:b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Weiter mit Businesspla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3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E240-59F5-49A4-83E2-36C8DC154A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Geplante Umsetz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Server – Client Prinzip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Kommunikation im Spie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achrichten: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einzelne Spieler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An all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8C0-16C7-4C21-A776-63468D27E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57240" y="2571840"/>
            <a:ext cx="561276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Spielbeschreibung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ED38-5E3E-4F65-BD79-492DFE2AA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Worum geht’s bei CMIYC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 Team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Führt Aufträge aus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Polize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Vereitelt Aufträge der Mafia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Ziel des Spiels: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reichung einer bestimmten Punkteanzahl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640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88C-7BF7-4728-8766-D58BCD0D8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9000" y="2643120"/>
            <a:ext cx="19998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4fe3ac"/>
                </a:solidFill>
                <a:latin typeface="Calibri"/>
              </a:rPr>
              <a:t>Teams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544-A5C7-40B1-98F6-3D99CC287C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Mafia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ig Boss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hält Aufträge vom Server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gibt Aufträge an die 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eaktiviert Agents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Mafioso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rfüllt Missionen für den Big Bos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tartpunkt der Mafia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estandteil von Aufträg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504-222E-49ED-A719-ABEA40843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Polizei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auptquarti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AT" sz="2400" spc="-1" strike="noStrike">
                <a:solidFill>
                  <a:srgbClr val="000000"/>
                </a:solidFill>
                <a:latin typeface="Constantia"/>
              </a:rPr>
              <a:t>Startpunkt der Polizist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NPC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päher mit bestimmtem Überwachungsbereich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Meldet Aktivitäten an die gesamte Polize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nzahl sowie Überwachungsbereich hängen von der Größe des Spielfeldes ab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Offic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Verhaftet Mafiosi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Chief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Setzt Agents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9600" indent="-223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Kann Agents reaktivieren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Catch me if you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gmeister, Kofler, Marschni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655-933D-41B9-A2FC-FFEEB7B69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792</Words>
  <Paragraphs>2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39:19Z</dcterms:created>
  <dc:creator>Daniel Marschnig</dc:creator>
  <dc:description/>
  <dc:language>en-US</dc:language>
  <cp:lastModifiedBy>Daniel Marschnig</cp:lastModifiedBy>
  <dcterms:modified xsi:type="dcterms:W3CDTF">2008-12-19T07:34:52Z</dcterms:modified>
  <cp:revision>9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0</vt:r8>
  </property>
</Properties>
</file>